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4.gif" ContentType="image/gif"/>
  <Override PartName="/ppt/media/image7.wmf" ContentType="image/x-wmf"/>
  <Override PartName="/ppt/media/image5.jpeg" ContentType="image/jpeg"/>
  <Override PartName="/ppt/media/image6.wmf" ContentType="image/x-wmf"/>
  <Override PartName="/ppt/media/image8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530D-12B4-4251-97BC-D6008D8BC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CE6A-5C53-452C-98E0-4B557251A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748B-21DA-4222-8643-7B856B9A7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66B1-1FA1-4BFD-8324-EF07A7E04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D5AB7-0D6B-491C-AD1F-19C581CF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7E30-D7E2-421A-B8E0-591B56C36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796C-BD94-42CD-A535-78FBEB498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1712-545C-41A8-9D9C-93C28DCC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267C-06A2-486E-94B1-EE12D5B9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0221-893A-4578-98E2-8506678C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AF0C-B4D5-4925-A45C-3BAD83E07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CD9F-F176-41D1-8359-F7DD133F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622D-17C3-4559-BF12-B607FEBEE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ag-productions.nl/alaska/map/vlag2.jpg&amp;imgrefurl=http://www.bag-productions.nl/alaska/&amp;h=300&amp;w=400&amp;sz=11&amp;hl=en&amp;start=2&amp;tbnid=BuLG7ByVRTeYrM:&amp;tbnh=93&amp;tbnw=124&amp;prev=/images%3Fq%3Dalaskan%2Bflag%26gbv%3D2%26svnum%3D10%26hl%3Den%26safe%3Dactiv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438280" y="2743200"/>
            <a:ext cx="299088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Alask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905120" y="4343400"/>
            <a:ext cx="45432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Jordan Shomaker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         </a:t>
            </a: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Period 6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0"/>
            <a:ext cx="3581280" cy="26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e trip I planned to Alaska turned out to be pretty inexpensive and low key. My trip is going to be very awesome and I get a chance to get in touch with nature. It id going to be cold, fun, and busy. I can’t wait to visit such a unique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133720" y="380880"/>
            <a:ext cx="42670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ummary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0" name=""/>
          <p:cNvSpPr/>
          <p:nvPr/>
        </p:nvSpPr>
        <p:spPr>
          <a:xfrm>
            <a:off x="1452240" y="4600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837720" y="2971800"/>
            <a:ext cx="7162920" cy="35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I love the snow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he snow loves me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o be at one with natu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o test my survival skil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2666880" y="457200"/>
            <a:ext cx="3162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hy Alaska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641920" y="0"/>
            <a:ext cx="350208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1447560"/>
            <a:ext cx="7315200" cy="36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Driving to Can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Take a train from Canada to Alaska ($175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Once I get there I will travel via dog sl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($3,295) and by bo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438280" y="304920"/>
            <a:ext cx="419112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ransportation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638680" y="3720960"/>
            <a:ext cx="3505320" cy="31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3160" y="2057400"/>
            <a:ext cx="6629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A small cabin by the beach ($850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219320" y="457200"/>
            <a:ext cx="671508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here am I going to stay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038480" y="2587680"/>
            <a:ext cx="510552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8088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Whale Watching ($5,000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Bird watch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Bear Track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895480" y="304920"/>
            <a:ext cx="31435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hat To Do?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943600" y="1143000"/>
            <a:ext cx="2514600" cy="16923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1558800" cy="1752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505320" y="3962520"/>
            <a:ext cx="144756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38088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Hik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White Water Rafting ($98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Shopping ($500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057400" y="533520"/>
            <a:ext cx="4867200" cy="952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More Things to do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Watch the Northern Ligh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Volunteer at wildlife conserv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Playing in the snow: sledding, igloos, building snowmen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828800" y="457200"/>
            <a:ext cx="5219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Still More thing to do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Visit a glacier garden ($200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362320" y="457200"/>
            <a:ext cx="383364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Things to do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0099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04920" y="1828800"/>
          <a:ext cx="6476760" cy="45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828800"/>
                    <a:ext cx="6476760" cy="45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" name=""/>
          <p:cNvSpPr txBox="1"/>
          <p:nvPr/>
        </p:nvSpPr>
        <p:spPr>
          <a:xfrm>
            <a:off x="1828800" y="533520"/>
            <a:ext cx="5781600" cy="1181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Budget and Expenses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20:34:37Z</dcterms:created>
  <dc:creator>kfisch</dc:creator>
  <dc:description/>
  <dc:language>en-US</dc:language>
  <cp:lastModifiedBy>kfisch</cp:lastModifiedBy>
  <dcterms:modified xsi:type="dcterms:W3CDTF">2007-11-27T21:15:34Z</dcterms:modified>
  <cp:revision>3</cp:revision>
  <dc:subject/>
  <dc:title> </dc:title>
</cp:coreProperties>
</file>