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jpeg" ContentType="image/jpeg"/>
  <Override PartName="/ppt/media/image6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9C8-4946-4813-B904-EF09D693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1A2-220D-4707-A88C-79728A81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F5C-A0BD-4C55-8A97-60FF9169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632-4FF8-47C9-A56E-3BC92404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FBB-2106-4EF9-AB23-6EE41A47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5F9-2072-4B98-8B73-69E183E6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7EC-79D7-4E37-917D-1ED9C061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9EF-28E5-4198-A980-5ECA0EC4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5D6-613E-44E0-B937-95757AB8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404-22FE-44B6-9C2A-EE9CD57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CFE-3DFB-4984-B9F8-27798614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30C-3BB4-435D-BC0F-1D1BDB0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35A-5300-4029-9707-F3979FF5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ag-productions.nl/alaska/map/vlag2.jpg&amp;imgrefurl=http://www.bag-productions.nl/alaska/&amp;h=300&amp;w=400&amp;sz=11&amp;hl=en&amp;start=2&amp;tbnid=BuLG7ByVRTeYrM:&amp;tbnh=93&amp;tbnw=124&amp;prev=/images%3Fq%3Dalaskan%2Bflag%26gbv%3D2%26svnum%3D10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2743200"/>
            <a:ext cx="29908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ask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4343400"/>
            <a:ext cx="4543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rdan Shomake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riod 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trip I planned to Alaska turned out to be pretty inexpensive and low key. My trip is going to be very awesome and I get a chance to get in touch with nature. It id going to be cold, fun, and busy. I can’t wait to visit such a uniqu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3720" y="380880"/>
            <a:ext cx="426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452240" y="46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37720" y="2971800"/>
            <a:ext cx="71629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 love the snow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snow loves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o be at one with n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o test my survival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66880" y="457200"/>
            <a:ext cx="3162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y Alaska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41920" y="0"/>
            <a:ext cx="35020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3152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riving to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ake a train from Canada to Alaska ($17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nce I get there I will travel via dog s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($3,295) and by bo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304920"/>
            <a:ext cx="4191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ansport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3720960"/>
            <a:ext cx="35053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 small cabin by the beach ($85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457200"/>
            <a:ext cx="6715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ere am I going to stay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38480" y="2587680"/>
            <a:ext cx="51055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le Watching ($5,00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ird wa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ear Tra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95480" y="304920"/>
            <a:ext cx="314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To Do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55880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144756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Hi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ite Water Rafting ($9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hopping ($50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7400" y="533520"/>
            <a:ext cx="486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re Things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atch the Northern L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olunteer at wildlife con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ying in the snow: sledding, igloos, building snowme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828800" y="457200"/>
            <a:ext cx="52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ill More thing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isit a glacier garden ($20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62320" y="457200"/>
            <a:ext cx="38336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ngs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1828800"/>
          <a:ext cx="647676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64767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 txBox="1"/>
          <p:nvPr/>
        </p:nvSpPr>
        <p:spPr>
          <a:xfrm>
            <a:off x="1828800" y="533520"/>
            <a:ext cx="57816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dget and Expens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34:37Z</dcterms:created>
  <dc:creator>kfisch</dc:creator>
  <dc:description/>
  <dc:language>en-US</dc:language>
  <cp:lastModifiedBy>kfisch</cp:lastModifiedBy>
  <dcterms:modified xsi:type="dcterms:W3CDTF">2007-11-27T21:15:34Z</dcterms:modified>
  <cp:revision>3</cp:revision>
  <dc:subject/>
  <dc:title> </dc:title>
</cp:coreProperties>
</file>