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media/image4.gif" ContentType="image/gif"/>
  <Override PartName="/ppt/media/image7.wmf" ContentType="image/x-wmf"/>
  <Override PartName="/ppt/media/image5.jpeg" ContentType="image/jpeg"/>
  <Override PartName="/ppt/media/image6.wmf" ContentType="image/x-wmf"/>
  <Override PartName="/ppt/media/image8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DE2A-0A82-4F65-AE54-AB2F83F7B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3345-6EF0-40FC-9F0D-EB00BA87C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7123-383B-4391-BAF2-D59A9D9C3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36CD-C0E9-4659-BF8B-332E92804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5C4A-9371-464B-B11B-2510881CE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8AEE-0271-4460-B27A-BB291F0FD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52F7-CBD0-4DBD-831D-D0FA4A347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02E9-9F6A-4E34-A0FA-0FCA2DD3D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9B1BF-8A57-4DA2-B250-7FD5D04F1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555F1-A6DA-43E5-BBD9-540E50C8E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93A2-B050-4BEF-95C7-2AD213481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ACE26-4CC6-4E19-A0E9-E6F6F2570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6026B-5E84-477F-B306-08EF6A7124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bag-productions.nl/alaska/map/vlag2.jpg&amp;imgrefurl=http://www.bag-productions.nl/alaska/&amp;h=300&amp;w=400&amp;sz=11&amp;hl=en&amp;start=2&amp;tbnid=BuLG7ByVRTeYrM:&amp;tbnh=93&amp;tbnw=124&amp;prev=/images%3Fq%3Dalaskan%2Bflag%26gbv%3D2%26svnum%3D10%26hl%3Den%26safe%3Dactive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438280" y="2743200"/>
            <a:ext cx="2990880" cy="140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Alaska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905120" y="4343400"/>
            <a:ext cx="45432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Jordan Shomaker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         </a:t>
            </a: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Period 6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562720" y="0"/>
            <a:ext cx="358128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The trip I planned to Alaska turned out to be pretty inexpensive and low key. My trip is going to be very awesome and I get a chance to get in touch with nature. It id going to be cold, fun, and busy. I can’t wait to visit such a unique 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133720" y="380880"/>
            <a:ext cx="42670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Summary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0" name=""/>
          <p:cNvSpPr/>
          <p:nvPr/>
        </p:nvSpPr>
        <p:spPr>
          <a:xfrm>
            <a:off x="1452240" y="460044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837720" y="2971800"/>
            <a:ext cx="7162920" cy="35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I love the snow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The snow loves me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To be at one with natu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To test my survival skil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666880" y="457200"/>
            <a:ext cx="3162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Why Alaska?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641920" y="0"/>
            <a:ext cx="3502080" cy="33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80880" y="1447560"/>
            <a:ext cx="7315200" cy="36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Driving to Canad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Take a train from Canada to Alaska ($175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Once I get there I will travel via dog sl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($3,295) and by bo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438280" y="304920"/>
            <a:ext cx="4191120" cy="110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Transportation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638680" y="3720960"/>
            <a:ext cx="3505320" cy="31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533160" y="2057400"/>
            <a:ext cx="6629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A small cabin by the beach ($850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219320" y="457200"/>
            <a:ext cx="671508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Where am I going to stay?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038480" y="2587680"/>
            <a:ext cx="5105520" cy="42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Whale Watching ($5,000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Bird watch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Bear Track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895480" y="304920"/>
            <a:ext cx="3143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What To Do?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943600" y="1143000"/>
            <a:ext cx="2514600" cy="16923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1558800" cy="17524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3505320" y="3962520"/>
            <a:ext cx="144756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3808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Hik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White Water Rafting ($98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Shopping ($500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057400" y="533520"/>
            <a:ext cx="486720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More Things to do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Watch the Northern Ligh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Volunteer at wildlife conserv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Playing in the snow: sledding, igloos, building snowmen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828800" y="457200"/>
            <a:ext cx="5219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Still More thing to do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Visit a glacier garden ($200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2362320" y="457200"/>
            <a:ext cx="3833640" cy="8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Things to do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304920" y="1828800"/>
          <a:ext cx="6476760" cy="45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828800"/>
                    <a:ext cx="6476760" cy="45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"/>
          <p:cNvSpPr txBox="1"/>
          <p:nvPr/>
        </p:nvSpPr>
        <p:spPr>
          <a:xfrm>
            <a:off x="1828800" y="533520"/>
            <a:ext cx="5781600" cy="11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Budget and Expenses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0T20:34:37Z</dcterms:created>
  <dc:creator>kfisch</dc:creator>
  <dc:description/>
  <dc:language>en-US</dc:language>
  <cp:lastModifiedBy>kfisch</cp:lastModifiedBy>
  <dcterms:modified xsi:type="dcterms:W3CDTF">2007-11-27T21:15:34Z</dcterms:modified>
  <cp:revision>3</cp:revision>
  <dc:subject/>
  <dc:title> </dc:title>
</cp:coreProperties>
</file>