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620-2E58-4FC1-B596-AD956900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B4E-4F98-4F15-8E2F-09B3550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B77-BC0C-4E7D-96D2-96D76216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958-F6C9-4364-844F-11140226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756-4788-4112-BE7C-46EB03C8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533-C8AA-409B-BDC8-83874C61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D68-CFD4-4C7C-870B-65233AEF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3C5-9467-4091-9451-1CDA128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531-7AD4-4B9E-9989-D0165C4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81A-2911-485C-B6B1-AB97B82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EDA-6ED8-404D-A3D1-028E766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691-EC5A-4B85-9CEB-9B4E5CA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2E6-3F49-416C-A913-007D6D01A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g-productions.nl/alaska/map/vlag2.jpg&amp;imgrefurl=http://www.bag-productions.nl/alaska/&amp;h=300&amp;w=400&amp;sz=11&amp;hl=en&amp;start=2&amp;tbnid=BuLG7ByVRTeYrM:&amp;tbnh=93&amp;tbnw=124&amp;prev=/images%3Fq%3Dalaskan%2Bflag%26gbv%3D2%26svnum%3D10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2743200"/>
            <a:ext cx="2990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ask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34340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Shomak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iod 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trip I planned to Alaska turned out to be pretty inexpensive and low key. My trip is going to be very awesome and I get a chance to get in touch with nature. It id going to be cold, fun, and busy. I can’t wait to visit such a uniqu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3720" y="38088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452240" y="46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71629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 love the s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snow loves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be at one with n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test my survival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66880" y="457200"/>
            <a:ext cx="31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Alask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41920" y="0"/>
            <a:ext cx="3502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3152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riving to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ake a train from Canada to Alaska ($17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nce I get there I will travel via dog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$3,295) and by bo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304920"/>
            <a:ext cx="4191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720960"/>
            <a:ext cx="35053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small cabin by the beach ($8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457200"/>
            <a:ext cx="671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am I going to stay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2587680"/>
            <a:ext cx="51055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le Watching ($5,00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ird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ear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04920"/>
            <a:ext cx="31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To Do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5588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14475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Hi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ite Water Rafting ($9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hopping ($5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533520"/>
            <a:ext cx="486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e 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atch the Northern L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olunteer at wildlife con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ying in the snow: sledding, igloos, building snowm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28800" y="4572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ill More thing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isit a glacier garden ($2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62320" y="457200"/>
            <a:ext cx="38336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828800"/>
          <a:ext cx="647676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64767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1828800" y="533520"/>
            <a:ext cx="5781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dget and Expens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34:37Z</dcterms:created>
  <dc:creator>kfisch</dc:creator>
  <dc:description/>
  <dc:language>en-US</dc:language>
  <cp:lastModifiedBy>kfisch</cp:lastModifiedBy>
  <dcterms:modified xsi:type="dcterms:W3CDTF">2007-11-27T21:15:34Z</dcterms:modified>
  <cp:revision>3</cp:revision>
  <dc:subject/>
  <dc:title> </dc:title>
</cp:coreProperties>
</file>